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AD97-7529-41D8-8996-8A555C2D7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/c/ /a/ /t/ (3)   2. /b/ /ur/ /n/ (3)  3. /g/ /r/ /a/ /b/ (4)   4. /s/ /p/ /ar/ /k/ (4)  5. /b/ /r/ /ow/ /n/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3EB5-48BC-49CE-99AD-B7D88964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lder students this segmentation can be practiced with syllables, prefixes and suffixes.  Teacher : listen  com  mun I ca tion ( pause between syllables) What is the word? Students communication.  This helps students practice hearing and holding on to the parts of multi syllabic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6C3D-AD58-4FB6-98E9-C059DF337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40A-251C-4FD2-A566-452FFF13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1CE-FF9B-40AB-A69F-84A7FFAA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3BD-2AF8-41CF-B65F-7F4A8412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08F-C602-486A-82E2-DC45FCFB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48F-CC78-44E3-935A-2C5E9008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9C5-3F9E-49B4-AFD3-BC0E9C8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CC4-AB06-4FDA-89FB-B373E134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F6D-DF83-43C3-A4A5-F6A1568C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B5D-0B61-4FFB-9927-1D4A83F9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A7F-0DBB-46BF-9BFC-A63681F7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9B6-9EF3-4C5A-957F-A2D5A8A8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42F-5721-432C-A30C-6B32152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D863-C1FE-472B-9233-27FEB4087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MM 5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3" descr="j0316739.jpg"/>
          <p:cNvPicPr/>
          <p:nvPr/>
        </p:nvPicPr>
        <p:blipFill>
          <a:blip r:embed="rId1"/>
          <a:srcRect l="19961" t="0" r="1996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the phonemes you hear in each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                  2.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grab                 4. s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it is about the sounds not the spel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onics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process of mentally interpreting written symbols. Facility in reading is an essential factor in educational progress, and instruction in this basic skill is a primary purpose of elementary educ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an just 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/symbol identification, includ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the letters by sight and by sound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letters with the appropriate sounds and vice ver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ics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the alphabetic principle contributes greatly to children’s ability to read words both in isolation and in connected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 most curriculum only provide phonics instruction through the second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atic Reading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ics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enc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ar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tensive intervention programs for students who have not broken th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ini lesson that includes phoneme practice and phonics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2"/>
          <p:cNvSpPr txBox="1"/>
          <p:nvPr/>
        </p:nvSpPr>
        <p:spPr>
          <a:xfrm>
            <a:off x="2819520" y="685800"/>
            <a:ext cx="329544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ct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80880" y="2209680"/>
            <a:ext cx="838224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ve with an understanding of how to plan – teach 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have viewed and practiced teaching lessons in 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s about gr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 Requirement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attendance, careful reading of required texts and resources, active participation, timely completion of assignments, and self-evaluation.  Attendance is required at all ses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stone Model Les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write a lesson plan focusing on reading and writing for their theme unit.  The lesson is expected to incorporate the strategies learned in ESMM 5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and prompt atten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class participation and completed class assignments 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Lesson and Lesson Pres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Assess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ton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we get to D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L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riven Scientifically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re phonemic awareness skill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ic awareness skills are the skills needed to recognize that a spoken word consists of a sequence of individual Developing awareness of sounds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 Pract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sound No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What is the first sound in v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first sound in van is /v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/b/ tells the instructor to only say th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recognize the same sounds in different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sound is the same in fix, fall and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irst sound /f/ i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categ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recognize the word in a set of three or four words that has the “odd”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each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word does not belong? Bug, bus,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ome other examples of phonemic awareness skills: 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, including the ability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ge if two words start the same or end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phoneme from a wo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phonemes in a word,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 sounds toge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 of sound patterns in the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re able to break a word into separate sounds, saying each sound, then write each sound, and read the wor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3:40:20Z</dcterms:created>
  <dc:creator>Administrator</dc:creator>
  <dc:description/>
  <dc:language>en-US</dc:language>
  <cp:lastModifiedBy>Kathleen Clay</cp:lastModifiedBy>
  <dcterms:modified xsi:type="dcterms:W3CDTF">2011-06-28T14:21:52Z</dcterms:modified>
  <cp:revision>34</cp:revision>
  <dc:subject/>
  <dc:title>   What are phonemic awareness skills?  Definition  Phonemic awareness skills are the skills needed to recognize that a spoken word consists of a sequence of individual Developing awareness of sounds   </dc:title>
</cp:coreProperties>
</file>